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806-E377-4A90-A9B0-54A8ECF3C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11A3-C9F3-4EF8-B233-0CFA9ED2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CB28-44E0-470B-B6BC-CCC9AA29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3E68-49C0-4ED4-84EA-583672D0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254-3C28-4B33-B055-EDBEC8EF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2CD5-49C3-4275-A580-A5C228109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225A-4F68-4E41-9C69-1EC14FE5C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B390-4EF1-41CA-B475-6E0B9D81CF7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0268-91AF-447D-B957-E77605379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55D-4FC6-45C6-A1EC-0B633CFB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FF5-C6A2-49FC-8585-BB0FFF58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7BA1-E390-40C8-94E4-C613BD23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BB1E-87B9-4DF6-88F4-A49B1DA9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800E-BFBC-4883-A9CE-27D67130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38C2-0456-427A-B600-32B33AFF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521-462E-41D5-A1FA-57B17658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023D-9BF0-483B-B906-4EFE20A1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47D-1D9E-4AF5-8B58-4CC4C55E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2048-3A08-4D55-A981-B16911C4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AEE-0A5E-423A-A6A1-DCD0AF9F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77AD-B50C-4CF3-903A-4400FEAF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71B-659D-4F9F-AE7C-C05D96FF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5203-EAF9-438B-82A6-E1CE27F5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FF9-6125-4269-9BC0-BF2CDCF21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F43-615E-4982-97B8-3BFC90D61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C80-485F-41BE-8830-ACCEA953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A4D3-2FA9-4BBF-B6C9-F56F28B5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4D5-C66E-498F-8132-06D63644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0F4F-AF14-4729-893B-D6DA8E809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E6C9-1635-4500-A9EF-CA9072C9A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AC2C-C678-48AF-A3E7-6211B5D38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29B1-6CC8-4E05-977E-CE1D365C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16E0-799C-4533-8321-5293924C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F40-9BD0-4C97-B598-3FF5FEB5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3F9-F5A2-4D87-B182-B6C09D923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3F6-B1D3-42F9-9138-1C6A8548E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F9C-6AE9-4289-8712-34515EC7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5D9-6F7F-4409-923C-8E5CF172D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905-3A9A-41C3-B9C1-7C403654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71B-9DAE-4A6F-9B07-52CF0033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7A49-3707-4D01-98C5-C4D3670A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4DF9-40F1-4400-AE01-487678300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5B85-9ABF-4B14-8222-2C4E347E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083-7E56-42DC-9228-130C3071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2FF-48F3-4E56-9572-AA9808FA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36E5-44E2-4384-845A-AAB8E7524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3B7-19AA-4A3B-BE43-292B5350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6FB-A68A-485A-9CA6-CB4803C17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6A1E-FF9F-459D-95A5-89239172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CA74-F0E1-4878-966C-9525866E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CF6-50E2-456F-9AD8-50549673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D53-7891-48CA-BF55-B8EC3B7F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23B-A177-4E5B-BDFB-CBFEF818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1E2-C424-4779-BFF5-A02E6673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A00-87EA-43D4-9B65-E8CA445E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3F4-EAE7-41D3-ACF6-EE600AC1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D44-FB01-4387-BADA-82C87DD8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D14-0343-4FAA-81CE-DCC99FCE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A26-C602-4966-85A9-82BC1258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C346-5E0A-44AC-B824-806638C2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575B-2B08-419F-93FD-8054CB0F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ADF1-E475-4866-957D-06F6508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DC39-CF52-41D8-8304-2E989AE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DF8A-289A-4322-AB0F-1697E99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6F4E-8459-49AC-9925-A11623A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DC8D-075E-4F03-9BC6-FDDB28A6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BED-0A85-4DF7-960A-82ADC9FD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EC36-88B3-413F-B28A-37E694E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8C5D-6C0A-4187-84F8-31BA870B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A4F7-15C1-441B-BAA2-760B3EDF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547-9C87-4B89-A023-D412DC98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04A-069C-48F2-BA93-400C2BB5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8CB-267E-4D36-9D57-ADD73AA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CF8-A103-437A-BC3A-7AF05F6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FCD-68BF-4504-8000-7067070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0D6-8BD5-48AB-8CC9-25D10951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045-7DEB-4219-B2E8-EB4F6E3A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B7F-66A2-4D83-A6DC-2F100344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7E1-CD70-4145-BD0D-F261BE4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2B01-1C25-4E5C-9B8E-E0635D51421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652E-1A04-4304-8373-791CA9BA43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E1F-527D-43ED-B61A-C3CA7A27F1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371-937F-4FD7-ADAF-DA0F3A6FE5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219320" y="190512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x0010_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F7E0-43FB-4E3B-BCDB-67118159C6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F7FA-254A-406C-A78E-133FA6BE45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new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B6B-25FA-4708-B0D9-1F546E9F33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20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20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7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9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E39F-1AE3-4034-9A0A-8DE5A6F8D5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1905120"/>
            <a:ext cx="8686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539-2F73-42BD-8B35-50373957FA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46B5-7970-4379-9009-5027584D04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7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53F6-3718-4169-A078-AAEC747436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9C1-D12D-4D28-BC21-89F4FD5CC2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8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BB71-578D-40DE-96D8-29BA52A233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5BC4-55B7-4121-A180-38462E6FC4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80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0424-08E8-4029-95FF-1E0541BABD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D08-1247-48F1-A0B0-898CE472F5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892-4078-4ECC-93A3-34388D91A9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6CB-B228-42A1-9B20-42EB01255F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1A0-C518-4749-A691-6CD739A52D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99B5-47BA-4DBB-BA54-5F8BAA4DF5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0E7-1425-4A7C-ABC7-382ED76BD4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948-FB02-4E5E-B59A-C5981228C7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B38-2D7B-4C91-AA51-97D02D7FF3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97E-2FD8-4098-AA29-B18105D2B5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BFE0-602E-4001-BE07-A221AF31AD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0CFF-23D0-4979-9744-085D15D63E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25146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what the big ideas are so that the connections to prior knowledge they are making are more exp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243-97CC-4C6B-96E5-A6B90460C4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4F29-E6E4-4019-9940-585495AE8D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500-3DEC-4236-944D-65A7D750E4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58E-C9BE-4B88-85DD-AF9030C31F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7A1-4AD5-440D-87CC-67BCDF7200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E1CF-F67F-4B29-A249-FEF3354242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72A9-7159-4EB0-B962-B8382ACC9F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F02-70C3-46B1-8CF0-A6117D5BE9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794F-E29D-4639-A029-4751A3D83F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D9BB-171B-49C5-B6A7-D94062FE73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F735-960E-4791-A68E-AE3D004B12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083-1A16-4739-878B-471E89A9A7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2D5-A348-4129-A962-64DE20A655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066680" y="1981080"/>
            <a:ext cx="741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49C8-7771-414F-8436-DEC5F164D8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lated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143000" y="24382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571F-AC0A-438E-92BF-E34B7C6BE5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709-31B3-44E2-AA31-75FC040CED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78C-422A-4E67-A4BD-F748DCC882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E0F6-4AE1-47E6-BAD9-4574FC38BB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9CD-B45A-4676-A33B-639A8B1FC5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 today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42D-B369-4A2F-AFCF-2C1A3B82CF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7374-72D4-4F3F-8A5E-2FFF650D14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066680" y="19810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epare for tomo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important issues in developing lesson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43BE-0267-421C-A872-97508AB686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780-EE7B-4B49-876F-33C2D48390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07A-F362-4F39-8A49-3279C025AE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underlying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85C-BA0C-4F2C-AE8F-C1637EEDC0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7F9-ABDF-4C42-BCA3-6B104D34F4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14400" y="9907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C8D-C265-40C8-AF32-D441971548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0660-08F3-4629-A78A-7BB3AFCB91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01:43Z</dcterms:created>
  <dc:creator>PSteele</dc:creator>
  <dc:description/>
  <dc:language>en-US</dc:language>
  <cp:lastModifiedBy>Marian Small</cp:lastModifiedBy>
  <dcterms:modified xsi:type="dcterms:W3CDTF">2009-07-31T17:53:48Z</dcterms:modified>
  <cp:revision>162</cp:revision>
  <dc:subject/>
  <dc:title>Slide 1</dc:title>
</cp:coreProperties>
</file>